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7612-896B-4633-AB9E-A191A0B59C3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CFA-0772-4036-B758-1B73AF45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D8E-FB98-4FDA-8455-D6AEABC0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D7C-5AE6-4A78-9191-4D873D13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F48-5E7F-4983-A077-97AA57D3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7CCC6-FBF5-4D9F-AD26-417A135E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A32A2-B465-4463-AE47-4A2C16C6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A4171-5D5F-4F0C-B22E-09672E0C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2ACCA-0170-4039-B817-D8353BFF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B1862-3B4A-4996-9407-73A046E6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73186-CDFD-468F-827B-C1A6E8C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F1030-52D4-4DA2-B0DA-09011107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880-9331-4763-93F7-6440EE6B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46EEB-4B08-4EC6-BC74-DBBF9CA5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4A957-7A44-4F06-B557-8B0FEE5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BC9D5-CB64-4411-AB64-2F9AFD42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D9F43-8C4B-4B7E-B8C8-0B1E102F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993EA-CD9E-4D16-86CF-1F00F514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FC1C-378C-43EB-936C-F2FAD11B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A3A3-0978-4EA6-9761-65911933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5924-ABD7-4283-865E-CFFB5A17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7D35-6C4A-4052-9879-F64D3C34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C388-0079-4E01-AE0E-B3957675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568-F702-48F6-9654-BC2265AA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6F172-2FBC-4C24-B452-DBD61A77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8ECD-D650-4B79-A085-06E69365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7AB4-4858-426F-8E15-FCAB15CD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6B8C-1EC7-4FB7-93F4-B9905D8F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1736-BF7F-4C93-ADC4-700EEB26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4F89-4E55-4221-88CD-E32F483F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496E-B89A-4D22-9F3A-85F16DCC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C2246-3047-4738-A201-D9693018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6A084-23FD-4167-A31E-8910F7A7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F93B49-B00C-4087-BB86-29912E67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16F-09DB-4DC6-B96A-87710C20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0DC35-61C4-45A5-A732-F76C3ACE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F26128-BD0A-4817-A0AA-6DC5A5E6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2B766-76D8-4B52-B83B-2B694710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3FE7A-31A0-4549-BE9E-AFE7319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48A55-777A-4B63-ACBA-DC13AC8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E8C68-33A3-419F-8AB5-789A3728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AA69F-B115-4DEA-911D-34D2AB8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6D759-4DDE-4E81-86E9-D0CFE0DA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EB3C7-1BFF-404E-8D2C-14C592F6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79C-D67D-4F74-82B9-76190D5E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3DC-9607-4629-B8AE-965C409C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0FB-EE42-4648-BF14-7E70F217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7B6-8A19-4FAC-AB64-F96D469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CC5-66C8-45EC-90B0-38CCBBC4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0a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af0f5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af0f5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D30C-ED64-40E8-B04F-788C6BE8B894}" type="slidenum">
              <a:rPr b="0" lang="en-US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0a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ea157a"/>
          </a:solidFill>
          <a:ln w="47880">
            <a:solidFill>
              <a:srgbClr val="ea157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af0f5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af0f5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BD1B-F22B-4C75-ACE5-B8159E62DFE2}" type="slidenum">
              <a:rPr b="0" lang="en-US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0a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af0f5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af0f5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3025-68DF-4B4F-AA27-B6C2CA3834C6}" type="slidenum">
              <a:rPr b="0" lang="en-US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0a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af0f5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af0f5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0f5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D1E1-E677-4B7C-9020-DD1DC16C9A38}" type="slidenum">
              <a:rPr b="0" lang="en-US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0f5b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4800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0f5b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d6ecff"/>
                </a:solidFill>
                <a:latin typeface="Constantia"/>
              </a:rPr>
              <a:t>Проф др Мирјана Веселиновић</a:t>
            </a:r>
            <a:endParaRPr b="0" lang="en-US" sz="22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914560"/>
          </a:xfrm>
          <a:prstGeom prst="rect">
            <a:avLst/>
          </a:prstGeom>
          <a:ln w="0">
            <a:noFill/>
          </a:ln>
        </p:spPr>
      </p:pic>
      <p:pic>
        <p:nvPicPr>
          <p:cNvPr id="179" name="Audio 4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U prijemnom odeljenju otvara se dokumantacija  bolesnik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Medicinska sestra prati bolesnika, organizuje da se obave predvidjene laboratorijske i druge analiz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Priprema postelju, bolesnika prati do prostorije za sanitarnu obradu (kupa, predaje odelo i prima bolničku odeću), posle čega ga smešta u bolesničku postelj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09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10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Član porodice, u svakoj vrsti prijema, treba da otprati bolesnika do bolesničke sobe i da bude pored njega dok se smesti, zato što je i porodici i bolesniku mnogo lakše i prijatnije kada znaju sprat, sobu i krevet gde bolesnik leži i ako se upoznaju sa osobljem lkoje će brinuti o njem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To ima odredjenu dozu sigurnosti i povrenja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09880" cy="2641320"/>
          </a:xfrm>
          <a:prstGeom prst="rect">
            <a:avLst/>
          </a:prstGeom>
          <a:ln w="0">
            <a:noFill/>
          </a:ln>
        </p:spPr>
      </p:pic>
      <p:pic>
        <p:nvPicPr>
          <p:cNvPr id="214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Dolaskom u bolesničku sobu bolesnik se sreće sa pravim bolničkim ambijentom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Tada se suočava istovremeno sa dva problema: poremećajem zravlja i nužnošću da boravi u nepoznatom  okruženj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Medicinska sestra može svojim ljubaznim stavom, toplim i prijateljskim razgovorom da ublaži njegove strepnj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16" name="Titl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Pored opštih podataka o bolesniku medicinska sestra treba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da  utvrdi i zapiše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način na koji je bolesnik došao u bolesničku jedinicu, koliko je pokretan i koji položaj zauzim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mogućnost komunikacij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telesnu masu i visinu bolesnik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vitalne znak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eventualnu preosetljivost na neki lek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da li uzima lekove, koje i da li ih je poneo sa sobom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da li uzima dijetu i koj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druge podatke koji mogu da utiču na boravak u bolnici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0" name="Audio 1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22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61440" cy="12193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457200" y="2438280"/>
            <a:ext cx="8229600" cy="1676520"/>
          </a:xfrm>
          <a:prstGeom prst="rect">
            <a:avLst/>
          </a:prstGeom>
          <a:solidFill>
            <a:srgbClr val="57082e"/>
          </a:solidFill>
          <a:ln w="478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ffff00"/>
                </a:solidFill>
                <a:latin typeface="Comic Sans MS"/>
              </a:rPr>
              <a:t>Obezbedjivanje edukacije pacijenata je glavna uloga svake sestre koja pruža negu, bez obzira na posao koji obavlja, zvanje ili kliničke uslove u kojima radi </a:t>
            </a:r>
            <a:endParaRPr b="0" lang="en-US" sz="2400" spc="-1" strike="noStrike">
              <a:solidFill>
                <a:srgbClr val="af0f5b"/>
              </a:solidFill>
              <a:latin typeface="Arial"/>
            </a:endParaRPr>
          </a:p>
        </p:txBody>
      </p:sp>
      <p:pic>
        <p:nvPicPr>
          <p:cNvPr id="224" name="Audio 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Corbel"/>
              </a:rPr>
              <a:t>Edukacij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je priznata kao funkcija sestrinstva kada je Forens Najtingel napisala svoju čuvenu raspravu – Monografiju o sestrinstv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Značajna je za obezbedjenje individualizovane neg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dukacija pacijenata u razvijenoj sestrinskoj praksi, postala j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obaveza sestara na profesionalnoj osnovi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kao i 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njihova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zakonska dužnost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26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6144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Sprovodi se po odredjenim standardima sa cijem da edukacija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pacijenata treba da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olakša pacijentu i porodici da sagledaju i shvate zdravstveno stanje obolelog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pojača potencijal pacijenata i porodice da prate i učestvuju u donošenju plana zdravstvene neg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poveća sposobnost pacijenata i porodice da se bore sa teškoćama  koje bolest donosi, sa lošom prognozom i nus efektima tretman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povećavaju ulogu pacijenta i porodice u koninuiranoj nezi; kao i da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prihvate i promovišu zdrav stil života pacijenata 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29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61440" cy="1219320"/>
          </a:xfrm>
          <a:prstGeom prst="rect">
            <a:avLst/>
          </a:prstGeom>
          <a:ln w="0">
            <a:noFill/>
          </a:ln>
        </p:spPr>
      </p:pic>
      <p:pic>
        <p:nvPicPr>
          <p:cNvPr id="230" name="Audio 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spitalizacijom bolesnik se odvaja od svog socijalnog miljea – od članova porodice, rođaka i prijatelja i bolesnik, tada, veoma često, doživljava “deobu samog sebe”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Teškoća u adaptaciji bolesnika na novu sredinu doprinosi da se bolest  teže podnosi 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32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33" name="Audio 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jčešći kontakt bolesnika sa porodicom su poset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dicinska sestra treba da ima u vidu da neki bolesnici žele svakodnevne posete, neki povremeno (u okviru kućnog reda), a manji broj uopšte ne želi poset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Njihove želje za posetama zavise od mnogih faktora-zdravstvenog stanja, odnosa u porodici, potrebe za poštedom članova porodice...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35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Klasične posete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olesnicima prema kućnom redu bolnice se obično obavljaju popodne, posle ručka u vreme odmora bolesnik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skustva pokazuju da u većini hospitalnih ustanova  te posete nisu dobro organizovane i da ne odgovaraju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olesnicima (jer se zamore)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osetiocima, često ne znaju šta da razgovaraju sa bolesnikom, ali iz pristojnosti ostaju do kraja poset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dicinskim sestrama koje se nadju u situaciji da ne mogu da smeste obilje hrane, koja se često kvari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38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39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Prijem u bolnicu je složena i delikatna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intervencija kroz koju medicinska sestra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počinje da stvara i razvija odnos izmedj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osoblja za negu i bolesnika, koji će se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nastaviti u bolničkoj jedinici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557440" cy="3427560"/>
          </a:xfrm>
          <a:prstGeom prst="rect">
            <a:avLst/>
          </a:prstGeom>
          <a:ln w="0">
            <a:noFill/>
          </a:ln>
        </p:spPr>
      </p:pic>
      <p:pic>
        <p:nvPicPr>
          <p:cNvPr id="183" name="Audio 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      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Savremeni način organizacije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poseta treba da obezbedi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a posetioci doprinesu poboljšanju stanja boolesnik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a medicinska sestra za vreme posete uspostavi kontakt sa članovima porodice ( prikupi eventualno dopunske podatke o bolesniku, da članove porodice uključi u negu, pripremi za otpust i pruži im odredjene informacije o bolesniku)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41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42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57082e"/>
          </a:solidFill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Posete bolesnicima treba da budu tako organizovane da zadovolje </a:t>
            </a:r>
            <a:r>
              <a:rPr b="1" i="1" lang="sr-Latn-RS" sz="2400" spc="-1" strike="noStrike">
                <a:solidFill>
                  <a:srgbClr val="ffffff"/>
                </a:solidFill>
                <a:latin typeface="Corbel"/>
              </a:rPr>
              <a:t>tri osnovna pravila</a:t>
            </a: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da se ne remeti rad zdravstvenih radnik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da se zadovolji želja bolesnika za posetom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da posete budu korisne za bolesnik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44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45" name="Audio 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47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57200" y="2438280"/>
            <a:ext cx="8153280" cy="1676520"/>
          </a:xfrm>
          <a:prstGeom prst="rect">
            <a:avLst/>
          </a:prstGeom>
          <a:solidFill>
            <a:srgbClr val="57082e"/>
          </a:solidFill>
          <a:ln w="478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Otpust podrazumeva odlazak bolesnika iz bolnice, bilo da ide u svoj dom ili drugo mesto stalnog boravka ili da se prevodi u drugu zdravstvenu ustanovu radi daljeg lečenja, rehabilitacije i nege </a:t>
            </a:r>
            <a:endParaRPr b="0" lang="en-US" sz="2400" spc="-1" strike="noStrike">
              <a:solidFill>
                <a:srgbClr val="af0f5b"/>
              </a:solidFill>
              <a:latin typeface="Arial"/>
            </a:endParaRPr>
          </a:p>
        </p:txBody>
      </p:sp>
      <p:pic>
        <p:nvPicPr>
          <p:cNvPr id="249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 savremenoj zdravstvenoj službi postoji opšte prihvaćen stav  i tendencija da se 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period hospitallizacije skraćuje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 traje samo koliko to medicinski razlozi nalažu, jer je bolničko lečenje kao 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najskuplji oblik zdravstvene zaštit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pored ostalog i veliko finansijsko opterećenje, kako za bolesnika tako i za društvo u celini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51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57082e"/>
          </a:solidFill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    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Bolesnici se prilikom otpusta, sa stanovišta zdravstvene nege, mogu podeliti u dve kategorije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akutne (sa akutnim bolestima, koji se za kratko vreme oporave i vrate u normalno stanje i život, gde im nije potrebna dalja stručna pomoć medicinske sestre)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hronične (hospitalizacija za njih najčešće predstavlja samo jedan segment u njihovom dugotrajnom lečenju, rehabilitaciji i nezi)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54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55" name="Audio 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Za otpust iz bolnice treba pripremiti i bolesnika i porodicu</a:t>
            </a: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prema, u skladu sa Procesom zdravstvene nege može da ima dve etape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premu koja se odnosi na osposobljavanje bolesnika za samonegu, lečenje i rehabilitacijuu kućnim uslovima i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posrednu pripremu za odlazak kući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57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58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prema bolesnika tokom hospitalizacije j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individualn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i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zavisno od njegovih potreb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obuhvata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bučavanje za 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pravilno doziranje i uzimanje lekov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bučavanje za 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prilagodjavanje načina ishran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avetovanje o mogućnosti da bolesnik 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nastavi svoj profesionalni rad i druge aktivnosti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za nepokretne bolesnike priprema za otpust obuhvata i 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praktično obučavanje člana porodic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za izvodjenje postupaka zdravstvene neg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60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61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57082e"/>
          </a:solidFill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Organizacija </a:t>
            </a:r>
            <a:r>
              <a:rPr b="1" lang="sr-Latn-RS" sz="2400" spc="-1" strike="noStrike">
                <a:solidFill>
                  <a:srgbClr val="ffff00"/>
                </a:solidFill>
                <a:latin typeface="Corbel"/>
              </a:rPr>
              <a:t>neposredne pripreme bolesnika za otpust </a:t>
            </a: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vodi medicinska sestra bolničke jedinic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Ona će na dan otpusta, zajedno sa bolesnikom kroz razgovor i druge postupke izvršiti završnu evaluaciju postizanja planiranih ciljeva u okviru zdravstvene neg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63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64" name="Audio 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dicinske sestre su, zbog napornog rada i dugotrajnog boravka u bolničkoj sredini, izložene brojnim štetnim uticajim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zičkim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sihičkim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ocijalnim naporim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 nekim sredinama i uticaju i bioloških, hemijskih supstancija i zagadjivača, koji mogu da dovedu do profesionalnih oštećenja i smanjenja radne sposobnosti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66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67" name="Audio 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lužba zdravstvene nege je jedna od 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najdinamičnijih delatnosti u zdravstvu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jer je veći deo sestrinskih aktivnosti vezan za pokret a mnoge od njih i za fizički napor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dicinske sestre kao najobrazovaniji stručnjaci za negu treba da znaju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osnovna pravila o držanju tela i o mogućnostima da se sa manje snage i utroška energij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obave sve aktivnosti u nezi, naročito fizilki naporan posao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69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70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Značajan elemenat tokom svakog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prijema jeste način na koji se medicinsk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sestra obraća bolesniku i pratioc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Njen odnos treba da bude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prilagodjen stanju i uzrastu bolesnika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2768760" cy="3397320"/>
          </a:xfrm>
          <a:prstGeom prst="rect">
            <a:avLst/>
          </a:prstGeom>
          <a:ln w="0">
            <a:noFill/>
          </a:ln>
        </p:spPr>
      </p:pic>
      <p:pic>
        <p:nvPicPr>
          <p:cNvPr id="187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dicinske sestre treba da znaju da, preterano ili neodgovarajuće opterećenje pojedinih delova tela, može da dovede do bola, brzog zamora, a ponekad i do povred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eterano opterećenje najčešće ugrožava  meke delove kičm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a bi se olakšao naporan rad oko teških bolesnika, u sestrinskoj praksi se preduzimaju zaštitne mere na rad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e svega se obezbedjuju razna pomagala i spave za rad sa teškimi nepokretnim bolesnicima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72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73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oguće opasnosti od svakodnevnog rada sa lekovima i dezinfekcionim sredstvima izlažu medicinske sestre  štetnim uticajim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rbel"/>
              </a:rPr>
              <a:t>direktnim kontaktom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pri pripremi i aplikaciji lekova ili prskanjem po koži, pa čak i po licu i očim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rbel"/>
              </a:rPr>
              <a:t>inhalacijom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prilikom mešanja lekova u obliku praha ili brojanjem tablet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rbel"/>
              </a:rPr>
              <a:t>digestijom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lučajno uprskanog leka u usta ii indirektno rukam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76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57082e"/>
          </a:solidFill>
          <a:ln w="38160">
            <a:solidFill>
              <a:srgbClr val="7fd13b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Obavezne mere zaštite koje treba da primenjuju sestre na radu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pridržavanje odredjenih mera koje su propisane u pogledu primene, čuvanja i roka upotrebe pojedinih hemikalij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korišćenje zaštitnih sredstava pri upotrebi potencijalnih iritanasa (rukavice, maska, radno odelo)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redovno čišćenje i provetravanje radnih prostorija za primenu lekov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redovno pranje i negovanje ruku zaštitnom kremom, da bi se izbegla oštećenja kož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rbel"/>
              </a:rPr>
              <a:t>rano otkrivanje svih promena na koži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78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79" name="Audio 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rbel"/>
              </a:rPr>
              <a:t>Svaka zdravstvena ustanova ima svoj pravilnik za sprečavanje i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rbel"/>
              </a:rPr>
              <a:t>suzbijanje intrahospitanih infekcij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avilnici se obično rade u skladu sa specifičnostima ustanove,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li svi predvidjaju osnovne mere kao što su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bavezno nošenje zaštitne odeće i obuće, korišćenje maske i rukavica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osledno spovodjenje asepse i antisepse u rad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bavezno korišćenje opreme za jednokratnu upotrebu (igala, špiceva)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igijensko održavanje bolničkih prostorija uz redovnu upotrebu dezinfekcionih sredstav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81" name="Titl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3720" cy="1219320"/>
          </a:xfrm>
          <a:prstGeom prst="rect">
            <a:avLst/>
          </a:prstGeom>
          <a:ln w="0">
            <a:noFill/>
          </a:ln>
        </p:spPr>
      </p:pic>
      <p:pic>
        <p:nvPicPr>
          <p:cNvPr id="282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mena odgovarajućih postupaka u odlaganju upotrebljenog materijal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dgovarajuće zbrinjavanje izučevin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zolovanje bolesnika koji su HBS i HIV pozitivni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Zdravstveni nadzor i redovna kontrola osoblja, posebno onih na rizičnim radnim mestim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dovna vakcinacija medicinskih sestara koje su u radu izložene opasnosti od hepatitisa B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baveza da se hitno prijavi svaki ubod iglom koja je korišćena i da se preduzmu odgovarajuće mer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84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61440" cy="1219320"/>
          </a:xfrm>
          <a:prstGeom prst="rect">
            <a:avLst/>
          </a:prstGeom>
          <a:ln w="0">
            <a:noFill/>
          </a:ln>
        </p:spPr>
      </p:pic>
      <p:pic>
        <p:nvPicPr>
          <p:cNvPr id="285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23720" y="914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s može da se shvati kao štetan faktor, koji na univerzalni način  dejstvom preko vegetativno-hormonskog sistema, naglo ili postepeno (podmuklo) izbacuje organizam iz ravnoteže, uz manji ili veći, duži ili kraći napor, da se organizam oporavi i vrati u prvobitno stanj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87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tretch/>
        </p:blipFill>
        <p:spPr>
          <a:xfrm>
            <a:off x="0" y="3281400"/>
            <a:ext cx="9077400" cy="3152880"/>
          </a:xfrm>
          <a:prstGeom prst="rect">
            <a:avLst/>
          </a:prstGeom>
          <a:ln w="0">
            <a:noFill/>
          </a:ln>
        </p:spPr>
      </p:pic>
      <p:pic>
        <p:nvPicPr>
          <p:cNvPr id="289" name="Audio 4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81000" y="1881360"/>
            <a:ext cx="8982000" cy="3095280"/>
          </a:xfrm>
          <a:prstGeom prst="rect">
            <a:avLst/>
          </a:prstGeom>
          <a:ln w="0">
            <a:noFill/>
          </a:ln>
        </p:spPr>
      </p:pic>
      <p:pic>
        <p:nvPicPr>
          <p:cNvPr id="293" name="Audio 1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128520" y="1914480"/>
            <a:ext cx="88869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2476440" y="1862280"/>
            <a:ext cx="419112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381880" cy="13158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solidFill>
            <a:srgbClr val="57082e"/>
          </a:solidFill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U ukupnoj patologiji ljudi traumatizam zauzima značajno mesto i predstavlja uzrok velikog procenta smrtnosti i onesposobljenosti populacij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Zbog toga je adekvatan medicinski tretman koji sačinjava </a:t>
            </a:r>
            <a:r>
              <a:rPr b="1" i="1" lang="sr-Latn-CS" sz="2000" spc="-1" strike="noStrike">
                <a:solidFill>
                  <a:srgbClr val="ffff00"/>
                </a:solidFill>
                <a:latin typeface="Comic Sans MS"/>
              </a:rPr>
              <a:t>lečenje i rehabilitaciju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veoma značajan u smanjenju mortaliteta i invaliditet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446360" cy="2520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914400" y="4267080"/>
            <a:ext cx="7620120" cy="1981440"/>
          </a:xfrm>
          <a:prstGeom prst="rect">
            <a:avLst/>
          </a:prstGeom>
          <a:solidFill>
            <a:srgbClr val="57082e"/>
          </a:solidFill>
          <a:ln w="478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Da bi uspešno obavljala svoje zadatke u prijemnom bloku, medicinska sestra treba da poseduje solidno opšte i stručno obrazovanje  kao i spremnost da svoju profesionalnu ličnost stalno razvija </a:t>
            </a:r>
            <a:endParaRPr b="0" lang="en-US" sz="2400" spc="-1" strike="noStrike">
              <a:solidFill>
                <a:srgbClr val="af0f5b"/>
              </a:solidFill>
              <a:latin typeface="Arial"/>
            </a:endParaRPr>
          </a:p>
        </p:txBody>
      </p:sp>
      <p:pic>
        <p:nvPicPr>
          <p:cNvPr id="192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381880" cy="13158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solidFill>
            <a:srgbClr val="57082e"/>
          </a:solidFill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Zdravstvena nega je prisutna u obe faze tretmana povred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Medicinska sestra – tehničar zauzima značajno mesto u rehabilitacionom tim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Zdravstvena nega ima specifične karakteristike po sadržaju i različit intenzitet, od standardne do intenzivne neg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Ona se mora planirati i sprovoditi u koordinaciji sa ostalim metodama zdravstvenog tretman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609480" y="2209680"/>
            <a:ext cx="8001000" cy="3200400"/>
          </a:xfrm>
          <a:prstGeom prst="rect">
            <a:avLst/>
          </a:prstGeom>
          <a:solidFill>
            <a:srgbClr val="57082e"/>
          </a:solidFill>
          <a:ln w="478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ećina bolesnika dolazi u bolnicu sa uputom lekara na kome su upisani osnovni podaci o bolesniku i uputna dijagnoza</a:t>
            </a:r>
            <a:endParaRPr b="0" lang="en-US" sz="2400" spc="-1" strike="noStrike">
              <a:solidFill>
                <a:srgbClr val="af0f5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Sestra će se prilikom prijema predstaviti bolesniku i pratiocu, dati im potrebna obaveštenja o proceduri prijema i reći da će se brinuti o njima sve do smeštaja bolesnika u bolničku jedinicu</a:t>
            </a:r>
            <a:endParaRPr b="0" lang="en-US" sz="2400" spc="-1" strike="noStrike">
              <a:solidFill>
                <a:srgbClr val="af0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Arial"/>
            </a:endParaRPr>
          </a:p>
        </p:txBody>
      </p:sp>
      <p:pic>
        <p:nvPicPr>
          <p:cNvPr id="195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57082e"/>
          </a:solidFill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Način prijema u bolnicu zavisi od brojnih činilaca, prvenstveno od </a:t>
            </a:r>
            <a:r>
              <a:rPr b="1" i="1" lang="sr-Latn-CS" sz="2400" spc="-1" strike="noStrike">
                <a:solidFill>
                  <a:srgbClr val="ffff00"/>
                </a:solidFill>
                <a:latin typeface="Corbel"/>
              </a:rPr>
              <a:t>težine stanja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i </a:t>
            </a:r>
            <a:r>
              <a:rPr b="1" i="1" lang="sr-Latn-CS" sz="2400" spc="-1" strike="noStrike">
                <a:solidFill>
                  <a:srgbClr val="ffff00"/>
                </a:solidFill>
                <a:latin typeface="Corbel"/>
              </a:rPr>
              <a:t>uzrasta bolesnik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Bolesnik, zavisno od zdravstvenog stanja i stepena ugroženosti života, može da bude primljen u bolnicu :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kao hitan slučaj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na osnovu prethodnog dogovora sa lekarom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neposredno posle specijalističkog pregleda u prijemnoj ambulanti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8" name="Audio 3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Bolesnika u teškom stanju, ili vitalno ugroženog, u bolnicu dovodi ekipa hitne medicinske pomoći, ponekad član porodice ili osoba koja ga je zatekla u teškom stanj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Prvi i osnovni zadatak medicinske sestre je da bolesnika na kolicima otprati do odgovarajuće ambulante, da odmah pozove lekara, koji će posle ukazane pomoći odlučiti da li će bolesnika zadržati u bolnici ili ga treba uputiti u neku specijalizovanu ustanovu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U savremenim uslovima, svaka klinika i veća bolnica imaju prostorije i ekipe za prijem hitnih slučajev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00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01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Bolesnik se prima u bolnicu zbog planirane operacije, složenih dijagnostičkih ispitivanja ili primanja odredjene terapij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Ovi bolesnici su, po pravilu, psihološki pripremljeni za prijem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Medjutim, ne sme se zanemariti da su ovi bolesnici zabrinuti i uplašeni od tretmana koji ih očekuje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03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381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Obavlja se kada lekar utvrdi da bolesnik ima zdravstvene probleme zbog koji je neophodna hospitaizacija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Ovi bolesnici su, kao i hitni slučajevi, nepripremljeni za smeštaj, zbunjeni i teško prihvataju novonastalu situaciju </a:t>
            </a:r>
            <a:endParaRPr b="0" lang="en-US" sz="2400" spc="-1" strike="noStrike">
              <a:solidFill>
                <a:srgbClr val="af0f5b"/>
              </a:solidFill>
              <a:latin typeface="Constantia"/>
            </a:endParaRPr>
          </a:p>
        </p:txBody>
      </p:sp>
      <p:pic>
        <p:nvPicPr>
          <p:cNvPr id="206" name="Titl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Audio 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Ogi</dc:creator>
  <dc:description/>
  <dc:language>en-US</dc:language>
  <cp:lastModifiedBy>HOME</cp:lastModifiedBy>
  <dcterms:modified xsi:type="dcterms:W3CDTF">2021-01-28T20:43:16Z</dcterms:modified>
  <cp:revision>703</cp:revision>
  <dc:subject/>
  <dc:title>Slide 1</dc:title>
</cp:coreProperties>
</file>